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24.jpeg" ContentType="image/jpeg"/>
  <Override PartName="/ppt/media/image22.wmf" ContentType="image/x-wmf"/>
  <Override PartName="/ppt/media/image19.png" ContentType="image/png"/>
  <Override PartName="/ppt/media/image21.wmf" ContentType="image/x-wmf"/>
  <Override PartName="/ppt/media/image26.jpeg" ContentType="image/jpeg"/>
  <Override PartName="/ppt/media/image20.wmf" ContentType="image/x-wmf"/>
  <Override PartName="/ppt/media/image32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57.png" ContentType="image/png"/>
  <Override PartName="/ppt/media/image16.wmf" ContentType="image/x-wmf"/>
  <Override PartName="/ppt/media/image45.jpeg" ContentType="image/jpeg"/>
  <Override PartName="/ppt/media/image55.png" ContentType="image/png"/>
  <Override PartName="/ppt/media/image15.jpeg" ContentType="image/jpeg"/>
  <Override PartName="/ppt/media/image29.png" ContentType="image/png"/>
  <Override PartName="/ppt/media/image6.gif" ContentType="image/gif"/>
  <Override PartName="/ppt/media/image14.wmf" ContentType="image/x-wmf"/>
  <Override PartName="/ppt/media/image53.png" ContentType="image/png"/>
  <Override PartName="/ppt/media/image1.png" ContentType="image/png"/>
  <Override PartName="/ppt/media/image23.jpeg" ContentType="image/jpeg"/>
  <Override PartName="/ppt/media/image5.png" ContentType="image/png"/>
  <Override PartName="/ppt/media/image43.jpeg" ContentType="image/jpeg"/>
  <Override PartName="/ppt/media/image17.wmf" ContentType="image/x-wmf"/>
  <Override PartName="/ppt/media/image56.png" ContentType="image/png"/>
  <Override PartName="/ppt/media/image34.png" ContentType="image/png"/>
  <Override PartName="/ppt/media/image44.jpeg" ContentType="image/jpeg"/>
  <Override PartName="/ppt/media/image35.wmf" ContentType="image/x-wmf"/>
  <Override PartName="/ppt/media/image38.png" ContentType="image/png"/>
  <Override PartName="/ppt/media/LATIGO.WAV" ContentType="audio/x-wav"/>
  <Override PartName="/ppt/media/image39.png" ContentType="image/png"/>
  <Override PartName="/ppt/media/image42.jpeg" ContentType="image/jpeg"/>
  <Override PartName="/ppt/media/image46.jpeg" ContentType="image/jpeg"/>
  <Override PartName="/ppt/media/image54.png" ContentType="image/png"/>
  <Override PartName="/ppt/media/image47.jpeg" ContentType="image/jpeg"/>
  <Override PartName="/ppt/media/image51.png" ContentType="image/png"/>
  <Override PartName="/ppt/media/image12.wmf" ContentType="image/x-wmf"/>
  <Override PartName="/ppt/media/image48.jpeg" ContentType="image/jpeg"/>
  <Override PartName="/ppt/media/image49.jpeg" ContentType="image/jpeg"/>
  <Override PartName="/ppt/media/image37.wmf" ContentType="image/x-wmf"/>
  <Override PartName="/ppt/media/image7.wmf" ContentType="image/x-wmf"/>
  <Override PartName="/ppt/media/image30.png" ContentType="image/png"/>
  <Override PartName="/ppt/media/image11.wmf" ContentType="image/x-wmf"/>
  <Override PartName="/ppt/media/image3.png" ContentType="image/png"/>
  <Override PartName="/ppt/media/image33.png" ContentType="image/png"/>
  <Override PartName="/ppt/media/image31.jpeg" ContentType="image/jpeg"/>
  <Override PartName="/ppt/media/image10.wmf" ContentType="image/x-wmf"/>
  <Override PartName="/ppt/media/image25.jpeg" ContentType="image/jpeg"/>
  <Override PartName="/ppt/media/image40.png" ContentType="image/png"/>
  <Override PartName="/ppt/media/image4.jpeg" ContentType="image/jpeg"/>
  <Override PartName="/ppt/media/image8.wmf" ContentType="image/x-wmf"/>
  <Override PartName="/ppt/media/image13.png" ContentType="image/png"/>
  <Override PartName="/ppt/media/image9.wmf" ContentType="image/x-wmf"/>
  <Override PartName="/ppt/media/image41.png" ContentType="image/png"/>
  <Override PartName="/ppt/media/wind.wav" ContentType="audio/x-wav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E598-3489-4769-8FEF-AF1723991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9CBA-C603-412F-A384-653CAB7A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3444-A813-481A-9502-7297C32A2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F27B-188B-4B1B-85A2-6D752AF57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E7305-B975-424F-B7FB-79799B088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ABDB-1923-4728-9934-3B5D7429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EC40B-F040-48A4-89EA-D59A8891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C5826-2D4F-4E2D-87CA-94E052BF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1CA8-6C7E-4BA8-BB2A-344725C9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6BD18-E95B-439B-AD0C-17EB5667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F24F-9452-4718-99FA-713E395F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59EA-B7F3-4A00-BFE4-AF2793BF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EE2A8-4754-427A-9597-F48A9573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0EE9-B0E4-4EC6-A18D-EACE7577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151BE-4955-4B66-B7E4-82B8C27C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4C252-4549-44F9-9A58-F0D10E463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6DC7-2D92-4D00-A14A-7FC93DAA7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226D-E9F1-460F-A0A0-60908385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212E-45CD-4749-A426-D93419A5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43A1-D2AB-4581-B479-47E0CD7A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086B-1884-41B6-9066-DA33062B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B7BA-4F16-46BA-B10C-7B212082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CBCA-E101-4596-B990-C88574D2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5492-A2C4-4FA4-9F40-3F6CC553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31A5-766A-4C5E-BA34-46226855F5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7138-1D9C-4301-9C30-84F90AC793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4.jpeg"/><Relationship Id="rId7" Type="http://schemas.openxmlformats.org/officeDocument/2006/relationships/image" Target="../media/image28.jpe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png"/><Relationship Id="rId6" Type="http://schemas.openxmlformats.org/officeDocument/2006/relationships/image" Target="../media/image1.png"/><Relationship Id="rId7" Type="http://schemas.openxmlformats.org/officeDocument/2006/relationships/image" Target="../media/image34.png"/><Relationship Id="rId8" Type="http://schemas.openxmlformats.org/officeDocument/2006/relationships/image" Target="../media/image35.wmf"/><Relationship Id="rId9" Type="http://schemas.openxmlformats.org/officeDocument/2006/relationships/image" Target="../media/image36.jpeg"/><Relationship Id="rId10" Type="http://schemas.openxmlformats.org/officeDocument/2006/relationships/image" Target="../media/image37.wmf"/><Relationship Id="rId11" Type="http://schemas.openxmlformats.org/officeDocument/2006/relationships/image" Target="../media/image38.png"/><Relationship Id="rId1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3.png"/><Relationship Id="rId3" Type="http://schemas.openxmlformats.org/officeDocument/2006/relationships/image" Target="../media/image41.png"/><Relationship Id="rId4" Type="http://schemas.openxmlformats.org/officeDocument/2006/relationships/image" Target="../media/image31.jpeg"/><Relationship Id="rId5" Type="http://schemas.openxmlformats.org/officeDocument/2006/relationships/image" Target="../media/image1.png"/><Relationship Id="rId6" Type="http://schemas.openxmlformats.org/officeDocument/2006/relationships/audio" Target="../media/wind.wav"/><Relationship Id="rId7" Type="http://schemas.openxmlformats.org/officeDocument/2006/relationships/audio" Target="../media/LATIGO.WAV"/><Relationship Id="rId8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.pn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200320" cy="13716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303960" y="476280"/>
            <a:ext cx="2552760" cy="34513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900000" y="2522520"/>
            <a:ext cx="79441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ERTIFICACIONES DE CALIDAD</a:t>
            </a:r>
            <a:endParaRPr b="0" lang="en-US" sz="5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/>
          <p:nvPr/>
        </p:nvSpPr>
        <p:spPr>
          <a:xfrm>
            <a:off x="3059280" y="5805360"/>
            <a:ext cx="5760720" cy="648000"/>
          </a:xfrm>
          <a:prstGeom prst="rect">
            <a:avLst/>
          </a:pr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Bookman Old Style"/>
              </a:rPr>
              <a:t>Carlos Romero Góngo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Bookman Old Style"/>
              </a:rPr>
              <a:t>Superintendente Corporativo de Ca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539640" y="3679920"/>
            <a:ext cx="2727360" cy="1981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2" name=""/>
          <p:cNvSpPr txBox="1"/>
          <p:nvPr/>
        </p:nvSpPr>
        <p:spPr>
          <a:xfrm>
            <a:off x="3527280" y="3675240"/>
            <a:ext cx="4429440" cy="82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N LA INDUSTRIA</a:t>
            </a:r>
            <a:endParaRPr b="0" lang="en-US" sz="5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012000" y="2232000"/>
            <a:ext cx="2633400" cy="2709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820960" y="115920"/>
            <a:ext cx="578340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ffff"/>
                </a:solidFill>
                <a:latin typeface="Arial Black"/>
              </a:rPr>
              <a:t>¿COMO PERFECCIONAR LOS PROCESOS DE LA EMPRESA</a:t>
            </a:r>
            <a:r>
              <a:rPr b="0" i="1" lang="es-ES" sz="3200" spc="-1" strike="noStrike">
                <a:solidFill>
                  <a:srgbClr val="00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6400" y="3206880"/>
            <a:ext cx="6357960" cy="23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¿</a:t>
            </a: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BENCHMARKING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REINGENIERI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MEJORAMIENTO CONTINU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KAIZE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INNOVACIO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CERTIFICACION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1296720" cy="8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2641680" cy="1981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3132000" y="1916280"/>
            <a:ext cx="2641680" cy="198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250920" y="2349360"/>
            <a:ext cx="2908080" cy="1981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5148360" y="3360600"/>
            <a:ext cx="2881080" cy="215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7093080" y="4987800"/>
            <a:ext cx="2016000" cy="1465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3798720" y="5146560"/>
            <a:ext cx="1997280" cy="1451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8" name="" descr=""/>
          <p:cNvPicPr/>
          <p:nvPr/>
        </p:nvPicPr>
        <p:blipFill>
          <a:blip r:embed="rId7"/>
          <a:stretch/>
        </p:blipFill>
        <p:spPr>
          <a:xfrm>
            <a:off x="5673600" y="5468760"/>
            <a:ext cx="1851120" cy="1344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9" name="" descr=""/>
          <p:cNvPicPr/>
          <p:nvPr/>
        </p:nvPicPr>
        <p:blipFill>
          <a:blip r:embed="rId8"/>
          <a:stretch/>
        </p:blipFill>
        <p:spPr>
          <a:xfrm>
            <a:off x="6620040" y="189000"/>
            <a:ext cx="2199960" cy="13716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24000" y="3716280"/>
            <a:ext cx="3816360" cy="257184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En AUSTRAL l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Calidad Certific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es el pasaporte par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ingresar a los merc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más exigentes</a:t>
            </a:r>
            <a:r>
              <a:rPr b="1" i="1" lang="es-MX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8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8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8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1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1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16000" y="227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7585200" y="1123920"/>
            <a:ext cx="836640" cy="1081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5940360" y="1133640"/>
            <a:ext cx="1152720" cy="1143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3419640" y="1197000"/>
            <a:ext cx="1944360" cy="9684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250920" y="2492280"/>
            <a:ext cx="1800000" cy="1009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2700360" y="3141720"/>
            <a:ext cx="2592360" cy="1001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8" name="" descr=""/>
          <p:cNvPicPr/>
          <p:nvPr/>
        </p:nvPicPr>
        <p:blipFill>
          <a:blip r:embed="rId6"/>
          <a:stretch/>
        </p:blipFill>
        <p:spPr>
          <a:xfrm>
            <a:off x="144360" y="115920"/>
            <a:ext cx="1403280" cy="8748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5292720" y="3141720"/>
            <a:ext cx="1224000" cy="1008000"/>
          </a:xfrm>
          <a:prstGeom prst="rect">
            <a:avLst/>
          </a:prstGeom>
          <a:solidFill>
            <a:srgbClr val="00cccc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95600" y="3284640"/>
            <a:ext cx="114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SO 9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SO 14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SO 190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26920" y="532296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SQF 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122560" y="530064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SQF 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19640" y="5300640"/>
            <a:ext cx="1296720" cy="914400"/>
          </a:xfrm>
          <a:custGeom>
            <a:avLst/>
            <a:gdLst>
              <a:gd name="textAreaLeft" fmla="*/ 295920 w 1296720"/>
              <a:gd name="textAreaRight" fmla="*/ 1000800 w 12967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GMP.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16360" y="530064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99ff"/>
          </a:solid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OS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18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12000" y="5300640"/>
            <a:ext cx="1296720" cy="914400"/>
          </a:xfrm>
          <a:custGeom>
            <a:avLst/>
            <a:gdLst>
              <a:gd name="textAreaLeft" fmla="*/ 295920 w 1296720"/>
              <a:gd name="textAreaRight" fmla="*/ 1000800 w 12967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SA8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07280" y="530064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c905c"/>
              </a:gs>
              <a:gs pos="100000">
                <a:srgbClr val="00ff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BS8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79640" y="115920"/>
            <a:ext cx="7164360" cy="7207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ALGUNAS CERTIFICACIONES INTERNACION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DE RECONOCIDO PRESTIG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7"/>
          <a:stretch/>
        </p:blipFill>
        <p:spPr>
          <a:xfrm>
            <a:off x="7237440" y="2565360"/>
            <a:ext cx="1727280" cy="10396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8"/>
          <a:stretch/>
        </p:blipFill>
        <p:spPr>
          <a:xfrm>
            <a:off x="209520" y="3651120"/>
            <a:ext cx="1914480" cy="9558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9"/>
          <a:stretch/>
        </p:blipFill>
        <p:spPr>
          <a:xfrm>
            <a:off x="324000" y="1260360"/>
            <a:ext cx="1871640" cy="10191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340000" y="1557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35640" y="155736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22960" y="1557360"/>
            <a:ext cx="4734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691320" y="301464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24000" y="308772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24000" y="364500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0"/>
          <a:stretch/>
        </p:blipFill>
        <p:spPr>
          <a:xfrm>
            <a:off x="7236000" y="3716280"/>
            <a:ext cx="936360" cy="10810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11"/>
          <a:stretch/>
        </p:blipFill>
        <p:spPr>
          <a:xfrm>
            <a:off x="8245440" y="3716280"/>
            <a:ext cx="760320" cy="1008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659640" y="380700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7093080" y="2997360"/>
            <a:ext cx="1800000" cy="1066680"/>
          </a:xfrm>
          <a:prstGeom prst="rect">
            <a:avLst/>
          </a:prstGeom>
          <a:solidFill>
            <a:srgbClr val="ffff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800360" y="3500280"/>
            <a:ext cx="5364000" cy="0"/>
          </a:xfrm>
          <a:prstGeom prst="line">
            <a:avLst/>
          </a:prstGeom>
          <a:ln w="76320">
            <a:solidFill>
              <a:srgbClr val="e6120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03280" cy="846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14880" y="2492280"/>
            <a:ext cx="60948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19280" y="2349360"/>
            <a:ext cx="666720" cy="1133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364000" y="3499920"/>
            <a:ext cx="1079640" cy="172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3530520" y="3499920"/>
            <a:ext cx="1185840" cy="172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1476360" y="3573360"/>
            <a:ext cx="1224000" cy="1656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07960" y="333360"/>
            <a:ext cx="777240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ffff"/>
                </a:solidFill>
                <a:latin typeface="Arial Black"/>
              </a:rPr>
              <a:t>INTEGRANDO SISTEMAS DE CALIDAD CERTIFICADOS. RELACION CAUSA - EFECTO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56000" y="5299200"/>
            <a:ext cx="1769760" cy="1082520"/>
          </a:xfrm>
          <a:prstGeom prst="ellipse">
            <a:avLst/>
          </a:prstGeom>
          <a:gradFill rotWithShape="0">
            <a:gsLst>
              <a:gs pos="0">
                <a:srgbClr val="007575"/>
              </a:gs>
              <a:gs pos="100000">
                <a:srgbClr val="00ffff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ntigoniBd"/>
              </a:rPr>
              <a:t>F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476360" y="2852640"/>
            <a:ext cx="5183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ERTIFICADOS DE CALIDAD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95280" y="1463760"/>
            <a:ext cx="1895400" cy="957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4572000" y="5300640"/>
            <a:ext cx="2095560" cy="1008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179280" y="5300640"/>
            <a:ext cx="2181240" cy="936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2484360" y="1430280"/>
            <a:ext cx="1990800" cy="9907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144360" y="115920"/>
            <a:ext cx="1258920" cy="7840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826920" y="5950080"/>
            <a:ext cx="863640" cy="21420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eam MT"/>
              </a:rPr>
              <a:t>HACC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012080" y="321300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ntigoni"/>
              </a:rPr>
              <a:t>LIDERAZ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716360" y="1413000"/>
            <a:ext cx="1727280" cy="100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ccffcc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ntigoni Med"/>
              </a:rPr>
              <a:t>ASDA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ntigoni Med"/>
              </a:rPr>
              <a:t>GEOR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vert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7128000" cy="666900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867280" y="4172040"/>
            <a:ext cx="2752920" cy="20653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539640" y="4730760"/>
            <a:ext cx="4248360" cy="1938240"/>
          </a:xfrm>
          <a:prstGeom prst="rect">
            <a:avLst/>
          </a:prstGeom>
          <a:ln w="9360">
            <a:solidFill>
              <a:srgbClr val="000000"/>
            </a:solidFill>
            <a:prstDash val="lgDash"/>
            <a:miter/>
          </a:ln>
        </p:spPr>
      </p:pic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4932360" y="907920"/>
            <a:ext cx="3263760" cy="182268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826920" y="1413000"/>
            <a:ext cx="1729080" cy="1728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98" name=""/>
          <p:cNvSpPr txBox="1"/>
          <p:nvPr/>
        </p:nvSpPr>
        <p:spPr>
          <a:xfrm>
            <a:off x="826920" y="2924280"/>
            <a:ext cx="48974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SO 1400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99" name=""/>
          <p:cNvSpPr/>
          <p:nvPr/>
        </p:nvSpPr>
        <p:spPr>
          <a:xfrm>
            <a:off x="61596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Arial Black"/>
              </a:rPr>
              <a:t>SISTEMA DE GESTION AMBIENT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768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8" dur="768" fill="hold"/>
                                        <p:tgtEl>
                                          <p:spTgt spid="2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0" dur="768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2" dur="768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77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775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7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916360" y="609120"/>
            <a:ext cx="5999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ffff"/>
                </a:solidFill>
                <a:latin typeface="Arial"/>
              </a:rPr>
              <a:t>GESTION DE ETICA EN LOS NEGOCIO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655640" cy="10317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1414440" y="1916280"/>
            <a:ext cx="5533920" cy="41716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6084720" y="2708280"/>
            <a:ext cx="2916360" cy="26035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939960" y="4292640"/>
            <a:ext cx="3055680" cy="20383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5"/>
          <a:stretch/>
        </p:blipFill>
        <p:spPr>
          <a:xfrm>
            <a:off x="179280" y="1996920"/>
            <a:ext cx="308772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286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ffff"/>
                </a:solidFill>
                <a:latin typeface="Arial"/>
              </a:rPr>
              <a:t>ORGANIZACIONES MUNDIALES PROMOVIENDO LA MEJORA EN LA CALIDAD DE VID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2843280" y="1987560"/>
            <a:ext cx="4033800" cy="4105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2771640" y="1701720"/>
            <a:ext cx="1343160" cy="1943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1042920" y="3429000"/>
            <a:ext cx="2016360" cy="180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6804000" y="1844640"/>
            <a:ext cx="1944720" cy="1381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1" name="" descr=""/>
          <p:cNvPicPr/>
          <p:nvPr/>
        </p:nvPicPr>
        <p:blipFill>
          <a:blip r:embed="rId5"/>
          <a:stretch/>
        </p:blipFill>
        <p:spPr>
          <a:xfrm>
            <a:off x="6669000" y="3502080"/>
            <a:ext cx="2367000" cy="1006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2" name="" descr=""/>
          <p:cNvPicPr/>
          <p:nvPr/>
        </p:nvPicPr>
        <p:blipFill>
          <a:blip r:embed="rId6"/>
          <a:stretch/>
        </p:blipFill>
        <p:spPr>
          <a:xfrm>
            <a:off x="5292720" y="4879800"/>
            <a:ext cx="1708200" cy="1644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3" name="" descr=""/>
          <p:cNvPicPr/>
          <p:nvPr/>
        </p:nvPicPr>
        <p:blipFill>
          <a:blip r:embed="rId7"/>
          <a:stretch/>
        </p:blipFill>
        <p:spPr>
          <a:xfrm>
            <a:off x="2124000" y="5122800"/>
            <a:ext cx="1339920" cy="131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4" name="" descr=""/>
          <p:cNvPicPr/>
          <p:nvPr/>
        </p:nvPicPr>
        <p:blipFill>
          <a:blip r:embed="rId8"/>
          <a:stretch/>
        </p:blipFill>
        <p:spPr>
          <a:xfrm>
            <a:off x="324000" y="189000"/>
            <a:ext cx="143964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10920" y="609120"/>
            <a:ext cx="6504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00ffff"/>
                </a:solidFill>
                <a:latin typeface="Arial"/>
              </a:rPr>
              <a:t>CERTIFICADOS  DE CALIDAD…….</a:t>
            </a:r>
            <a:br>
              <a:rPr sz="4000"/>
            </a:br>
            <a:r>
              <a:rPr b="1" i="1" lang="es-MX" sz="3200" spc="-1" strike="noStrike">
                <a:solidFill>
                  <a:srgbClr val="ffff00"/>
                </a:solidFill>
                <a:latin typeface="Arial"/>
              </a:rPr>
              <a:t>¿QUE BUSCAMOS CERTIFICANDO LA CALIDAD?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39680" y="112680"/>
            <a:ext cx="1695600" cy="10573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508720" y="2709720"/>
            <a:ext cx="2711520" cy="3456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24000" y="2565360"/>
            <a:ext cx="4968720" cy="3816360"/>
          </a:xfrm>
          <a:prstGeom prst="rect">
            <a:avLst/>
          </a:prstGeom>
          <a:solidFill>
            <a:srgbClr val="ccffcc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A CALIDAD ES UN ARTE. ES 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GENTE, LA INFORMACION Y L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NSTALACIONES PERO, POR ENCIM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 TODO ES UN PROCESO CREATIV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S EL ARTE QUE MEZCLA TO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STOS INGREDIENTES PARA CREA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UN POCO DE MAGIA. ES 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REATIVIDAD, EL COMPROMIS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Y LA PASION DE QUIENES CRE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N ELLA</a:t>
            </a:r>
            <a:r>
              <a:rPr b="0" lang="es-MX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452600" y="1844640"/>
          <a:ext cx="6288120" cy="39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2600" y="1844640"/>
                    <a:ext cx="628812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4500720" y="4869000"/>
            <a:ext cx="2447640" cy="1439640"/>
          </a:xfrm>
          <a:custGeom>
            <a:avLst/>
            <a:gdLst>
              <a:gd name="textAreaLeft" fmla="*/ 558720 w 2447640"/>
              <a:gd name="textAreaRight" fmla="*/ 1888920 w 244764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CUL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32360" y="2060640"/>
            <a:ext cx="2448000" cy="1439640"/>
          </a:xfrm>
          <a:custGeom>
            <a:avLst/>
            <a:gdLst>
              <a:gd name="textAreaLeft" fmla="*/ 558720 w 2448000"/>
              <a:gd name="textAreaRight" fmla="*/ 1889280 w 244800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TECN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4360" y="2997360"/>
            <a:ext cx="3024000" cy="1728720"/>
          </a:xfrm>
          <a:custGeom>
            <a:avLst/>
            <a:gdLst>
              <a:gd name="textAreaLeft" fmla="*/ 690120 w 3024000"/>
              <a:gd name="textAreaRight" fmla="*/ 2333880 w 3024000"/>
              <a:gd name="textAreaTop" fmla="*/ 394560 h 1728720"/>
              <a:gd name="textAreaBottom" fmla="*/ 133416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CL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SATISFECH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89000"/>
            <a:ext cx="7057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s-MX" sz="3600" spc="-1" strike="noStrike">
                <a:solidFill>
                  <a:srgbClr val="ffff00"/>
                </a:solidFill>
                <a:latin typeface="Arial"/>
              </a:rPr>
              <a:t>CERTIFICAR LA CALIDAD</a:t>
            </a:r>
            <a:br>
              <a:rPr sz="3600"/>
            </a:br>
            <a:r>
              <a:rPr b="1" i="1" lang="es-MX" sz="3600" spc="-1" strike="noStrike">
                <a:solidFill>
                  <a:srgbClr val="ffff00"/>
                </a:solidFill>
                <a:latin typeface="Arial"/>
              </a:rPr>
              <a:t>SIGNIFICA……………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176040" y="115920"/>
            <a:ext cx="144324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71640" y="1484280"/>
            <a:ext cx="7273800" cy="4249800"/>
          </a:xfrm>
          <a:custGeom>
            <a:avLst/>
            <a:gdLst>
              <a:gd name="textAreaLeft" fmla="*/ 1660320 w 7273800"/>
              <a:gd name="textAreaRight" fmla="*/ 5613480 w 7273800"/>
              <a:gd name="textAreaTop" fmla="*/ 970200 h 4249800"/>
              <a:gd name="textAreaBottom" fmla="*/ 3279600 h 4249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a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95280" y="3862440"/>
          <a:ext cx="2158920" cy="21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862440"/>
                    <a:ext cx="215892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179280" y="1008000"/>
          <a:ext cx="2952720" cy="234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008000"/>
                    <a:ext cx="2952720" cy="23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3203640" y="4819680"/>
          <a:ext cx="2679480" cy="2038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3640" y="4819680"/>
                    <a:ext cx="267948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3564000" y="404640"/>
          <a:ext cx="2879640" cy="2111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64000" y="404640"/>
                    <a:ext cx="287964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4" name="" descr=""/>
          <p:cNvPicPr/>
          <p:nvPr/>
        </p:nvPicPr>
        <p:blipFill>
          <a:blip r:embed="rId9"/>
          <a:stretch/>
        </p:blipFill>
        <p:spPr>
          <a:xfrm>
            <a:off x="6227640" y="365040"/>
            <a:ext cx="2340000" cy="22003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1258920" y="1989000"/>
            <a:ext cx="755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UN CERTIFICADO TIENE SENTIDO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 txBox="1"/>
          <p:nvPr/>
        </p:nvSpPr>
        <p:spPr>
          <a:xfrm rot="19959600">
            <a:off x="5958000" y="5444640"/>
            <a:ext cx="990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TRE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7" name=""/>
          <p:cNvSpPr txBox="1"/>
          <p:nvPr/>
        </p:nvSpPr>
        <p:spPr>
          <a:xfrm rot="1843200">
            <a:off x="5321160" y="417600"/>
            <a:ext cx="112896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ENSIO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"/>
          <p:cNvSpPr txBox="1"/>
          <p:nvPr/>
        </p:nvSpPr>
        <p:spPr>
          <a:xfrm rot="20823000">
            <a:off x="324000" y="3125520"/>
            <a:ext cx="161928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AL GENIO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 rot="20556600">
            <a:off x="1414080" y="5600880"/>
            <a:ext cx="1655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PRESIO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0" name=""/>
          <p:cNvSpPr txBox="1"/>
          <p:nvPr/>
        </p:nvSpPr>
        <p:spPr>
          <a:xfrm rot="2678400">
            <a:off x="6649560" y="3068640"/>
            <a:ext cx="231480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ffff"/>
                  </a:solidFill>
                  <a:miter/>
                </a:ln>
                <a:noFill/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EOCUPACION</a:t>
            </a:r>
            <a:endParaRPr b="0" lang="en-US" sz="2000" spc="1" strike="noStrike">
              <a:ln w="12600">
                <a:solidFill>
                  <a:srgbClr val="ffffff"/>
                </a:solidFill>
                <a:miter/>
              </a:ln>
              <a:noFill/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627280" y="333360"/>
            <a:ext cx="90504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ABI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139680" y="44280"/>
            <a:ext cx="1479600" cy="9226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411280" y="2637000"/>
            <a:ext cx="4608720" cy="208728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CUANDO EXPRESA NO SOL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UN SENTIMIENTO SINO UN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MANERA AUTENTICA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HACER LAS COSAS. UN ESTI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DE VI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593040" y="4076640"/>
          <a:ext cx="3163680" cy="201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593040" y="4076640"/>
                    <a:ext cx="316368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39680" y="257040"/>
            <a:ext cx="1768320" cy="1101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484360" y="549360"/>
            <a:ext cx="665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00ffff"/>
                </a:solidFill>
                <a:latin typeface="Arial"/>
              </a:rPr>
              <a:t>CERTIFICADOS  DE CALIDAD…….</a:t>
            </a:r>
            <a:br>
              <a:rPr sz="4000"/>
            </a:br>
            <a:r>
              <a:rPr b="1" i="1" lang="es-MX" sz="3200" spc="-1" strike="noStrike">
                <a:solidFill>
                  <a:srgbClr val="ffff00"/>
                </a:solidFill>
                <a:latin typeface="Arial"/>
              </a:rPr>
              <a:t>¿OBLIGACION O CONVICCION</a:t>
            </a:r>
            <a:r>
              <a:rPr b="1" i="1" lang="es-MX" sz="3200" spc="-1" strike="noStrike">
                <a:solidFill>
                  <a:srgbClr val="00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71640" y="2133720"/>
            <a:ext cx="770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W. Edwards Deming:</a:t>
            </a:r>
            <a:br>
              <a:rPr sz="3200"/>
            </a:br>
            <a:r>
              <a:rPr b="1" lang="es-ES_tradnl" sz="3200" spc="-1" strike="noStrike">
                <a:solidFill>
                  <a:srgbClr val="00ffff"/>
                </a:solidFill>
                <a:latin typeface="Times New Roman"/>
              </a:rPr>
              <a:t>“No es suficiente que la dirección de una empresa se comprometa para toda la vida con la calidad y la productividad.  Debe saber a qué se compromete; es decir,  qué es lo que debe hacer. Estas obligaciones no pueden delegarse. El apoyo no basta. Se requiere acción”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77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770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7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1083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ffcc"/>
                </a:solidFill>
                <a:latin typeface="Arial Black"/>
              </a:rPr>
              <a:t>CASI TODO LO QUE TRATA SOBRE LA CALIDAD SE REDUCE A NORMAS LARGAS Y PESADAS; MATEMATICA INTIMIDANTE E INCOMPRENSIBLE. GRAN CANTIDAD DE GRAFICOS; LENGUAJE ACADEMICO Y LA EVIDENTE SENSACIÓN DE IMPORTANCIA DE LOS AUTO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OM PE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2200320" cy="13716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333360"/>
            <a:ext cx="4572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OMOS LO QUE HACEMOS DÍA A DÍA. DE MODO QUE LA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XCELENCIA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NO ES UN ACTO, SINO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UN HÁBITO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851280" y="2276640"/>
            <a:ext cx="4968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240660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35280" y="765000"/>
            <a:ext cx="8359560" cy="4972320"/>
          </a:xfrm>
          <a:prstGeom prst="irregularSeal2">
            <a:avLst/>
          </a:prstGeom>
          <a:solidFill>
            <a:srgbClr val="ccecff"/>
          </a:solidFill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ALGUNAS PERSO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NUNCA CAMBIAN REALMENT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SOLO MEJORAN LA FOR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DE FINGIR QUE HAN CAMBI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235080"/>
          <a:ext cx="5800680" cy="66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080"/>
                    <a:ext cx="5800680" cy="66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2181240" y="5229360"/>
            <a:ext cx="6638760" cy="1323720"/>
          </a:xfrm>
          <a:prstGeom prst="leftRightArrow">
            <a:avLst>
              <a:gd name="adj1" fmla="val 50000"/>
              <a:gd name="adj2" fmla="val 99840"/>
            </a:avLst>
          </a:prstGeom>
          <a:solidFill>
            <a:srgbClr val="ffff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EL 70 POR CIENTO DE LAS PERSON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RENUNCIAN A SUS JEFES, NO A SUS TRABAJ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627280" y="404640"/>
            <a:ext cx="61246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UN CERTIFICADO DE CALIDAD DEB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54520" y="912960"/>
            <a:ext cx="503856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ORIGINAR UN CAMBIO EN LA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419640" y="1415880"/>
            <a:ext cx="53719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MANERA DE HACER LAS COS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34920" y="42840"/>
            <a:ext cx="1619280" cy="1009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019920" y="1844640"/>
            <a:ext cx="3592440" cy="23954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2646360" y="196920"/>
            <a:ext cx="60292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A CALIDAD CERTIFICADA ES 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-2585880" y="2316240"/>
            <a:ext cx="7357680" cy="3200400"/>
            <a:chOff x="-2585880" y="2316240"/>
            <a:chExt cx="7357680" cy="3200400"/>
          </a:xfrm>
        </p:grpSpPr>
        <p:sp>
          <p:nvSpPr>
            <p:cNvPr id="210" name=""/>
            <p:cNvSpPr/>
            <p:nvPr/>
          </p:nvSpPr>
          <p:spPr>
            <a:xfrm>
              <a:off x="-2585880" y="3382920"/>
              <a:ext cx="183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2"/>
            <a:srcRect l="0" t="0" r="30379" b="0"/>
            <a:stretch/>
          </p:blipFill>
          <p:spPr>
            <a:xfrm>
              <a:off x="2260800" y="3078360"/>
              <a:ext cx="2511000" cy="17780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12" name=""/>
            <p:cNvGraphicFramePr/>
            <p:nvPr/>
          </p:nvGraphicFramePr>
          <p:xfrm>
            <a:off x="564120" y="2316240"/>
            <a:ext cx="2205360" cy="3200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4120" y="2316240"/>
                      <a:ext cx="2205360" cy="32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4" name=""/>
          <p:cNvSpPr/>
          <p:nvPr/>
        </p:nvSpPr>
        <p:spPr>
          <a:xfrm>
            <a:off x="2266920" y="2781360"/>
            <a:ext cx="3168720" cy="2735280"/>
          </a:xfrm>
          <a:custGeom>
            <a:avLst/>
            <a:gdLst>
              <a:gd name="textAreaLeft" fmla="*/ 723240 w 3168720"/>
              <a:gd name="textAreaRight" fmla="*/ 2445480 w 3168720"/>
              <a:gd name="textAreaTop" fmla="*/ 624240 h 2735280"/>
              <a:gd name="textAreaBottom" fmla="*/ 211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USTED </a:t>
            </a: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DEB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COOPERAR E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LUGAR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COMPET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35640" y="3573360"/>
            <a:ext cx="3456000" cy="2448000"/>
          </a:xfrm>
          <a:custGeom>
            <a:avLst/>
            <a:gdLst>
              <a:gd name="textAreaLeft" fmla="*/ 788760 w 3456000"/>
              <a:gd name="textAreaRight" fmla="*/ 2667240 w 3456000"/>
              <a:gd name="textAreaTop" fmla="*/ 558720 h 2448000"/>
              <a:gd name="textAreaBottom" fmla="*/ 188928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EL EGOIS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Y EL SABOTA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MATAN  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TRABAJO E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EQUIP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108000" y="115920"/>
            <a:ext cx="1584360" cy="9874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2916360" y="0"/>
            <a:ext cx="547344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RABAJO DE EQUIPO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4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4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4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8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616720" y="260280"/>
            <a:ext cx="3132000" cy="3240000"/>
          </a:xfrm>
          <a:prstGeom prst="cloudCallout">
            <a:avLst>
              <a:gd name="adj1" fmla="val -83351"/>
              <a:gd name="adj2" fmla="val 48921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4000" y="1330200"/>
            <a:ext cx="4174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Arial Black"/>
              </a:rPr>
              <a:t>“</a:t>
            </a:r>
            <a:r>
              <a:rPr b="1" lang="es-ES" sz="2000" spc="-1" strike="noStrike">
                <a:solidFill>
                  <a:srgbClr val="00ffff"/>
                </a:solidFill>
                <a:latin typeface="Arial Black"/>
              </a:rPr>
              <a:t>LA MAYOR OPORTUNIDAD QUE USTED TIENE PARA INCREMENTAR LOS RESULTADOS FINANCIEROS PROVIENE DE PERFECCIONAR SUS PROCESOS DE LA EMPRESA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08000" y="95400"/>
            <a:ext cx="1535040" cy="95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"/>
          <p:cNvGraphicFramePr/>
          <p:nvPr/>
        </p:nvGraphicFramePr>
        <p:xfrm>
          <a:off x="2700360" y="3068640"/>
          <a:ext cx="6192720" cy="367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3068640"/>
                    <a:ext cx="619272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5560920" y="549360"/>
          <a:ext cx="3259080" cy="2171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60920" y="549360"/>
                    <a:ext cx="3259080" cy="21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9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13:50:45Z</dcterms:created>
  <dc:creator> Carlos Romero</dc:creator>
  <dc:description/>
  <dc:language>en-US</dc:language>
  <cp:lastModifiedBy> Carlos Romero</cp:lastModifiedBy>
  <dcterms:modified xsi:type="dcterms:W3CDTF">2005-05-24T20:44:57Z</dcterms:modified>
  <cp:revision>5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455183082</vt:lpwstr>
  </property>
</Properties>
</file>